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560-5931-4525-9387-07B7C1F1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37F-C15D-41EA-A030-53E68317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5A1-475D-4C9E-A108-7A9232A5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00B-E5C6-4705-946E-5FB88472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521-44EA-4B6A-A369-9B22BC6F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F52-7031-4A16-872B-6131704C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70A-BFEC-4AAF-9749-E97DDC2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58C-40F7-480E-B525-58842CAB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70B-4F65-4F86-9506-419D393F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4A9-B019-43F3-9F15-4DDD0938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D51-6086-4240-A496-FD62AC27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E3B-010B-484F-8BA9-F26D5CFD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4323-1082-4479-A3F2-3A432AEF4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NN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organiza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. M. de Bellefon (APC):  “expérimenta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.-E. Campagne (LAL)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irman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“technique”, </a:t>
            </a:r>
            <a:r>
              <a:rPr b="0" i="1" lang="en-GB" sz="1600" spc="-1" strike="noStrike">
                <a:solidFill>
                  <a:srgbClr val="99cc00"/>
                </a:solidFill>
                <a:latin typeface="Arial"/>
              </a:rPr>
              <a:t>Web @ CCin2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. Davidson (IPN Lyon): “théori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. Dumarchez (LPNHE): “expériementa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. Katsanevas (APC?):  sub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. Lavignac (Saclay): “théori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. Mosca (Saclay): “Underground Infra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. Patzak (APC): Co-chai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link with A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. Tonazzo (APC): “expérimenta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. Volpe (IPN Orsay): “Supernova +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genera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. Dracos (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. Duchesn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. Bus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ecretari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1 – 12 – 13 Sept.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cation: APC (Pa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irman Jean-Eric Cam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-chairman Thomas Patz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2:56:30Z</dcterms:created>
  <dc:creator>J.E Campagne</dc:creator>
  <dc:description/>
  <dc:language>en-US</dc:language>
  <cp:lastModifiedBy>J.E Campagne</cp:lastModifiedBy>
  <dcterms:modified xsi:type="dcterms:W3CDTF">2007-09-18T14:41:36Z</dcterms:modified>
  <cp:revision>19</cp:revision>
  <dc:subject/>
  <dc:title>NNN08</dc:title>
</cp:coreProperties>
</file>